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6.pct" ContentType="image/x-pict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11.png" ContentType="image/png"/>
  <Override PartName="/ppt/media/image12.jpeg" ContentType="image/jpeg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FE9-A667-4469-B601-9DA0C53E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97FF-1289-41AC-9CA1-EEE17525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274D-11E2-46DE-8B78-EE450C6B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F6A-B638-4DD0-A895-0DC62D9E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A23-6709-4C17-98B7-1DED426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A2C-05CC-4CEE-812D-4237A4DB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1D4-4685-47BE-8095-D3CA7918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2DF-4B8C-4014-8F3C-9278070A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DC4-22F2-4ABC-85E8-F299C389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5FD-F03F-4525-BBCC-282ACCD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EE8-1649-4DB7-ADEF-D6E5C6C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936-4CF6-4615-967C-7398DF85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BAC-F7FE-49E7-8345-FF39D5E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F4B-2E91-498A-AA12-B8120E1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96F-4233-4D82-AB42-C847C47B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D51-14B1-4354-A04A-F4AAEBDBEF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09" name="Group 29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sp>
          <p:nvSpPr>
            <p:cNvPr id="110" name="Rectangle 30"/>
            <p:cNvSpPr/>
            <p:nvPr/>
          </p:nvSpPr>
          <p:spPr>
            <a:xfrm>
              <a:off x="152280" y="3188160"/>
              <a:ext cx="5723640" cy="73692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 rot="5400000">
              <a:off x="5704920" y="3232080"/>
              <a:ext cx="88236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sp>
          <p:nvSpPr>
            <p:cNvPr id="113" name="Rectangle 33"/>
            <p:cNvSpPr/>
            <p:nvPr/>
          </p:nvSpPr>
          <p:spPr>
            <a:xfrm>
              <a:off x="152280" y="4105080"/>
              <a:ext cx="5723640" cy="763560"/>
            </a:xfrm>
            <a:prstGeom prst="rect">
              <a:avLst/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 rot="5400000">
              <a:off x="5688720" y="4162320"/>
              <a:ext cx="91440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sp>
          <p:nvSpPr>
            <p:cNvPr id="116" name="Rectangle 36"/>
            <p:cNvSpPr/>
            <p:nvPr/>
          </p:nvSpPr>
          <p:spPr>
            <a:xfrm>
              <a:off x="152280" y="2273760"/>
              <a:ext cx="5706360" cy="736920"/>
            </a:xfrm>
            <a:prstGeom prst="rect">
              <a:avLst/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 rot="5400000">
              <a:off x="5687280" y="2318400"/>
              <a:ext cx="882360" cy="658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38"/>
          <p:cNvSpPr/>
          <p:nvPr/>
        </p:nvSpPr>
        <p:spPr>
          <a:xfrm>
            <a:off x="457200" y="2435400"/>
            <a:ext cx="5086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quiry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533520" y="3349800"/>
            <a:ext cx="508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 and Nature of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533520" y="4264200"/>
            <a:ext cx="508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and Social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43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sp>
          <p:nvSpPr>
            <p:cNvPr id="122" name="Rectangle 44"/>
            <p:cNvSpPr/>
            <p:nvPr/>
          </p:nvSpPr>
          <p:spPr>
            <a:xfrm>
              <a:off x="152280" y="1356120"/>
              <a:ext cx="5723640" cy="699840"/>
            </a:xfrm>
            <a:prstGeom prst="rect">
              <a:avLst/>
            </a:prstGeom>
            <a:gradFill rotWithShape="0">
              <a:gsLst>
                <a:gs pos="0">
                  <a:srgbClr val="373737"/>
                </a:gs>
                <a:gs pos="50000">
                  <a:srgbClr val="777777"/>
                </a:gs>
                <a:gs pos="100000">
                  <a:srgbClr val="37373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45"/>
            <p:cNvSpPr/>
            <p:nvPr/>
          </p:nvSpPr>
          <p:spPr>
            <a:xfrm rot="5400000">
              <a:off x="5726880" y="1380960"/>
              <a:ext cx="83808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47"/>
          <p:cNvSpPr/>
          <p:nvPr/>
        </p:nvSpPr>
        <p:spPr>
          <a:xfrm>
            <a:off x="1528920" y="1521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ce and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8"/>
          <p:cNvSpPr/>
          <p:nvPr/>
        </p:nvSpPr>
        <p:spPr>
          <a:xfrm>
            <a:off x="457200" y="1216080"/>
            <a:ext cx="5715000" cy="4343400"/>
          </a:xfrm>
          <a:prstGeom prst="lightningBol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9"/>
          <p:cNvSpPr/>
          <p:nvPr/>
        </p:nvSpPr>
        <p:spPr>
          <a:xfrm rot="2314200">
            <a:off x="1523160" y="2765160"/>
            <a:ext cx="32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IG 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0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2127240" y="523800"/>
            <a:ext cx="4432320" cy="176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mknuck\Local Settings\Temporary Internet Files\Content.IE5\VFWXN81O\MCj04039910000[1].wmf"/>
          <p:cNvPicPr/>
          <p:nvPr/>
        </p:nvPicPr>
        <p:blipFill>
          <a:blip r:embed="rId2"/>
          <a:stretch/>
        </p:blipFill>
        <p:spPr>
          <a:xfrm>
            <a:off x="304920" y="53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60440" y="2438280"/>
            <a:ext cx="50972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questions do you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3040" y="3505320"/>
            <a:ext cx="6224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9720" y="4114800"/>
            <a:ext cx="594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0:19:22Z</dcterms:created>
  <dc:creator>Mary Knuck</dc:creator>
  <dc:description/>
  <dc:language>en-US</dc:language>
  <cp:lastModifiedBy>Jennifer Robinson</cp:lastModifiedBy>
  <dcterms:modified xsi:type="dcterms:W3CDTF">2008-09-16T10:34:11Z</dcterms:modified>
  <cp:revision>90</cp:revision>
  <dc:subject/>
  <dc:title>PowerPoint Presentation</dc:title>
</cp:coreProperties>
</file>